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6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dt" idx="2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2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 type="sldNum" idx="2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108720" rIns="108720" tIns="54360" bIns="54360" anchor="b">
            <a:noAutofit/>
          </a:bodyPr>
          <a:lstStyle>
            <a:lvl1pPr marL="216000" indent="0" algn="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5F728E43-2BE9-4563-96D6-2DE62FAFC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3E002170-7A02-4703-8EBD-A945E9D15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DCC34498-C309-4BB4-BBF7-7F585E0E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68432928-9DD1-43CA-A01B-11098D32F05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F81DFA9E-0FFC-4F77-A78D-4AF2305B60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EC6B5F38-E3F1-4C6B-9BF7-6EB75A3465EA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4A1247CF-ECDD-4500-B75C-0BCD8CDC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ECC7226C-890E-4119-844D-0AF9C236C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6D3E15F3-4A4C-406A-994C-A4483032D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541A809B-A89B-4B80-8A66-A0F793D3A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90D3F54E-2588-4A72-BDC5-D262D135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5BC0BBC4-644C-431B-8FF9-5CEACA8AF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C28316B6-66AB-460D-A9AF-5216CB30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AD0170DE-1304-4BBA-914A-96E2426D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720" rIns="108720" tIns="54360" bIns="54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2171880"/>
                <a:tab algn="l" pos="3257640"/>
                <a:tab algn="l" pos="4343400"/>
                <a:tab algn="l" pos="5429160"/>
                <a:tab algn="l" pos="6515280"/>
                <a:tab algn="l" pos="7601040"/>
                <a:tab algn="l" pos="8686800"/>
                <a:tab algn="l" pos="9772560"/>
                <a:tab algn="l" pos="10858680"/>
              </a:tabLst>
            </a:pPr>
            <a:fld id="{1B68F1BD-FF7E-47C1-91DA-A82BFBC73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CB04D-B8BE-4AD1-A66F-8F993C5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3CAC4-ED29-4203-8579-82BE0998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DEE06-E8D7-4E3C-B4C2-E58322C4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71010-3A21-49F6-93B6-BDC6D6DB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BC6BC-727E-40E9-96EC-51D0702E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CDC9B-8F42-49A0-B614-7C37CD03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1326E8-322B-486B-8F06-ED29C623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4225D9-E3E9-45D4-B654-4AE2186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46BFD4-BFAB-467D-B556-CF0E6D8F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F82A06-2298-4E65-BA79-78CB52E0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0A1526-8D2B-46EF-8F0A-12AC9F8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EF7ECB-84D8-4410-8732-BBB797F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B78A7-22BF-4DEC-A753-9413061B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747BD6-56B3-4D9E-99ED-7A0C1F1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DAB6C-5D7C-4724-9C54-A971EF12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A54D7A-9090-491A-A580-77C5EEAB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D1C6-20D9-45F9-93E0-6C676695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060FE-A1C6-4242-A93B-D22B7AA8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69EBD-1A1E-481A-B0FE-675CA78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29C5A-6EB0-4572-8B3C-93F3378F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21FBA-7301-45EA-A066-3961E24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CCB9D-228F-4D82-B6C7-4E06946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138FB-B1FF-4DBD-9371-770A33AB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45D6D-CEDD-416A-961C-AC822728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778-3E76-4E0E-8024-E45ED2B6918C}" type="datetime">
              <a:rPr b="0" lang="en-US" sz="1400" spc="-1" strike="noStrike">
                <a:solidFill>
                  <a:srgbClr val="000099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ABE-6F15-4AC9-B6E5-0850C0BA5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8FEF-08FD-409A-A7B1-FA79CE34DA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269D-8424-4DA4-9275-BAD33C18AA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2C67-4962-4734-A417-4A0671335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82FE-4B92-4450-8C3C-87FF69A50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A25B-2A5E-4C95-90F3-0B6982220488}" type="datetime">
              <a:rPr b="0" lang="en-US" sz="1200" spc="-1" strike="noStrike">
                <a:solidFill>
                  <a:srgbClr val="000099"/>
                </a:solidFill>
                <a:latin typeface="Arial Narrow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1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1D6-FE30-4E4E-BDC7-2144168D0B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quad3"/>
          <p:cNvPicPr/>
          <p:nvPr/>
        </p:nvPicPr>
        <p:blipFill>
          <a:blip r:embed="rId2"/>
          <a:stretch/>
        </p:blipFill>
        <p:spPr>
          <a:xfrm>
            <a:off x="228600" y="1752480"/>
            <a:ext cx="3200400" cy="43434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3"/>
          <p:cNvSpPr/>
          <p:nvPr/>
        </p:nvSpPr>
        <p:spPr>
          <a:xfrm>
            <a:off x="3429000" y="1752480"/>
            <a:ext cx="5484960" cy="4341960"/>
          </a:xfrm>
          <a:prstGeom prst="rect">
            <a:avLst/>
          </a:prstGeom>
          <a:solidFill>
            <a:srgbClr val="a9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brand_horPP"/>
          <p:cNvPicPr/>
          <p:nvPr/>
        </p:nvPicPr>
        <p:blipFill>
          <a:blip r:embed="rId3"/>
          <a:stretch/>
        </p:blipFill>
        <p:spPr>
          <a:xfrm>
            <a:off x="227160" y="227160"/>
            <a:ext cx="8724600" cy="14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D03B-9658-47C0-B1BF-FA55B9EED95C}" type="datetime">
              <a:rPr b="0" lang="en-US" sz="1200" spc="-1" strike="noStrike">
                <a:solidFill>
                  <a:srgbClr val="003399"/>
                </a:solidFill>
                <a:latin typeface="Arial Narrow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29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Discover Ry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29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0300-ACF1-4D2C-BD15-31A3D68A41FA}" type="slidenum">
              <a:rPr b="0" lang="en-US" sz="1200" spc="-1" strike="noStrike">
                <a:solidFill>
                  <a:srgbClr val="00339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AB6A-06F3-4686-B775-F2F81B813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6DB-3182-4A7D-ACA9-D96DD65B7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035-00B8-4AB0-AFFB-6005FFA1B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8365-DBBA-426A-98FC-768116C78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F52D-1FD5-4BFC-AF12-B9B3677FD5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CF8C-FA86-49A7-AE68-A0E402352F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5" descr=""/>
          <p:cNvPicPr/>
          <p:nvPr/>
        </p:nvPicPr>
        <p:blipFill>
          <a:blip r:embed="rId2"/>
          <a:stretch/>
        </p:blipFill>
        <p:spPr>
          <a:xfrm>
            <a:off x="222120" y="6095880"/>
            <a:ext cx="8693280" cy="50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quadbackgound2"/>
          <p:cNvPicPr/>
          <p:nvPr/>
        </p:nvPicPr>
        <p:blipFill>
          <a:blip r:embed="rId3"/>
          <a:stretch/>
        </p:blipFill>
        <p:spPr>
          <a:xfrm>
            <a:off x="239760" y="1600200"/>
            <a:ext cx="8675640" cy="434016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4D27-AA5A-4170-A67C-6DF3D7637F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ryerson.ca/physics/index.html" TargetMode="External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5"/>
          <p:cNvSpPr/>
          <p:nvPr/>
        </p:nvSpPr>
        <p:spPr>
          <a:xfrm>
            <a:off x="30492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 Narrow"/>
              </a:rPr>
              <a:t>Medical Physics at Ry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5400" y="-76320"/>
            <a:ext cx="7843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epartment of Physic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9" name="Rectangle 16"/>
          <p:cNvSpPr/>
          <p:nvPr/>
        </p:nvSpPr>
        <p:spPr>
          <a:xfrm>
            <a:off x="3340080" y="1816200"/>
            <a:ext cx="55753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r. A. Pejovi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ć-Mili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Chair and Prof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Dr. T. Antimiro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ssistant Chair and Associate Pr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 Over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hat is 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verview of Medical Phys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nd Science Programs at Ry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eer Opportunities for Gradu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Question and Answ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s Demo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Medical Physicist Rewards</a:t>
            </a:r>
            <a:br>
              <a:rPr sz="4800"/>
            </a:b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 of applying the principles of physics to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tisfaction of developing new technology for medic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ibuting to the well-being of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iving competitive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What do we mean by a qualified</a:t>
            </a:r>
            <a:br>
              <a:rPr sz="4000"/>
            </a:b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medical physicist?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 individual who is competent enough to independently practice in one or more of the subfields in medical phys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ertification and continuing education (to demonstrate compe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rained to be familiar with the principles of physics used in equipment an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with government regulations and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with performance specifications of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miliar with physical limitations of instruments, calibration procedures, and computer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is the Medical Physicist’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imary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Discipline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1"/>
          <p:cNvSpPr/>
          <p:nvPr/>
        </p:nvSpPr>
        <p:spPr>
          <a:xfrm>
            <a:off x="2971800" y="5568840"/>
            <a:ext cx="3124080" cy="44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What is the Medical Physicist’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imary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rial"/>
              </a:rPr>
              <a:t>Responsibility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458200" cy="44881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3"/>
          <p:cNvSpPr/>
          <p:nvPr/>
        </p:nvSpPr>
        <p:spPr>
          <a:xfrm>
            <a:off x="2971800" y="5486400"/>
            <a:ext cx="3124080" cy="442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4920" y="1773360"/>
            <a:ext cx="8564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epartment of Physics</a:t>
            </a:r>
            <a:br>
              <a:rPr sz="4800"/>
            </a:b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8" name="Picture 3" descr="IMG_3177.jpg"/>
          <p:cNvPicPr/>
          <p:nvPr/>
        </p:nvPicPr>
        <p:blipFill>
          <a:blip r:embed="rId1"/>
          <a:stretch/>
        </p:blipFill>
        <p:spPr>
          <a:xfrm>
            <a:off x="4800600" y="378612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"/>
          <p:cNvPicPr/>
          <p:nvPr/>
        </p:nvPicPr>
        <p:blipFill>
          <a:blip r:embed="rId2"/>
          <a:stretch/>
        </p:blipFill>
        <p:spPr>
          <a:xfrm>
            <a:off x="2666880" y="3022560"/>
            <a:ext cx="3168720" cy="3567240"/>
          </a:xfrm>
          <a:prstGeom prst="rect">
            <a:avLst/>
          </a:prstGeom>
          <a:ln w="0">
            <a:noFill/>
          </a:ln>
        </p:spPr>
      </p:pic>
      <p:sp>
        <p:nvSpPr>
          <p:cNvPr id="660" name="Slide Number Placeholder 4"/>
          <p:cNvSpPr/>
          <p:nvPr/>
        </p:nvSpPr>
        <p:spPr>
          <a:xfrm>
            <a:off x="6553080" y="6229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821-8E86-48E1-9A95-AD4AE49B97B0}" type="slidenum">
              <a:rPr b="0" lang="en-US" sz="1200" spc="-1" strike="noStrike">
                <a:solidFill>
                  <a:srgbClr val="00339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partment of Physic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yerson Univers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723920" y="22093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as an independent department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full-time and 15 adjunct faculty members; 23 in the area of Bio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100 Undergraduate Medical Physics students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 Graduated Biomedical Physics students (MSc and PhD) and 42 enrolled in programs in 2012/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10" descr="DSC_0180 (5)"/>
          <p:cNvPicPr/>
          <p:nvPr/>
        </p:nvPicPr>
        <p:blipFill>
          <a:blip r:embed="rId1"/>
          <a:stretch/>
        </p:blipFill>
        <p:spPr>
          <a:xfrm>
            <a:off x="250920" y="2209680"/>
            <a:ext cx="4446360" cy="2971800"/>
          </a:xfrm>
          <a:prstGeom prst="rect">
            <a:avLst/>
          </a:prstGeom>
          <a:ln w="0">
            <a:noFill/>
          </a:ln>
        </p:spPr>
      </p:pic>
      <p:sp>
        <p:nvSpPr>
          <p:cNvPr id="66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3336-A0DF-46F5-B3CA-586AE8CEA3A5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6"/>
          <p:cNvSpPr/>
          <p:nvPr/>
        </p:nvSpPr>
        <p:spPr>
          <a:xfrm>
            <a:off x="639360" y="5516640"/>
            <a:ext cx="38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 Xmas Party – Dec.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left_strip_consumer_1"/>
          <p:cNvPicPr/>
          <p:nvPr/>
        </p:nvPicPr>
        <p:blipFill>
          <a:blip r:embed="rId2"/>
          <a:stretch/>
        </p:blipFill>
        <p:spPr>
          <a:xfrm>
            <a:off x="34920" y="6213600"/>
            <a:ext cx="548640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99"/>
                </a:solidFill>
                <a:latin typeface="Arial"/>
              </a:rPr>
              <a:t>Programs offered by the Department of Physics</a:t>
            </a:r>
            <a:endParaRPr b="0" lang="en-US" sz="4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124080" y="16761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Undergraduate  (BSc) Program in 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disciplina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provide high quality, relevant education/training for graduates to enter into the workforce as medical or health physicists or continue on to graduate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70c6"/>
                </a:solidFill>
                <a:latin typeface="Arial"/>
              </a:rPr>
              <a:t>Graduate Program (MSc and PhD) in Biomedica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that is at the forefront of the research and development of novel methodologies for disease detection, treatment, and prevention, including relevant knowledge outside of their field and/or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8CF1-B77E-42EE-A24E-1C1F9B275540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71" name="Picture 4" descr="science options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80860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5"/>
          <p:cNvSpPr/>
          <p:nvPr/>
        </p:nvSpPr>
        <p:spPr>
          <a:xfrm>
            <a:off x="6629400" y="3657600"/>
            <a:ext cx="25146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6"/>
          <p:cNvSpPr/>
          <p:nvPr/>
        </p:nvSpPr>
        <p:spPr>
          <a:xfrm>
            <a:off x="3352680" y="91440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2743200" y="1219320"/>
            <a:ext cx="20574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cal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8"/>
          <p:cNvSpPr/>
          <p:nvPr/>
        </p:nvSpPr>
        <p:spPr>
          <a:xfrm>
            <a:off x="1447920" y="3048120"/>
            <a:ext cx="99036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9"/>
          <p:cNvSpPr/>
          <p:nvPr/>
        </p:nvSpPr>
        <p:spPr>
          <a:xfrm>
            <a:off x="6353280" y="3071880"/>
            <a:ext cx="990360" cy="6858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0"/>
          <p:cNvSpPr/>
          <p:nvPr/>
        </p:nvSpPr>
        <p:spPr>
          <a:xfrm flipH="1">
            <a:off x="3657240" y="53352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1"/>
          <p:cNvSpPr/>
          <p:nvPr/>
        </p:nvSpPr>
        <p:spPr>
          <a:xfrm>
            <a:off x="0" y="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cience at Ry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7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Science at Ryers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228600" y="1600200"/>
            <a:ext cx="304920" cy="106668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"/>
          <p:cNvSpPr/>
          <p:nvPr/>
        </p:nvSpPr>
        <p:spPr>
          <a:xfrm>
            <a:off x="228600" y="2666880"/>
            <a:ext cx="304920" cy="106704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228600" y="3733920"/>
            <a:ext cx="304920" cy="106668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0"/>
          <p:cNvSpPr/>
          <p:nvPr/>
        </p:nvSpPr>
        <p:spPr>
          <a:xfrm>
            <a:off x="228600" y="4800600"/>
            <a:ext cx="304920" cy="106668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533520" y="4800600"/>
            <a:ext cx="8229600" cy="1066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4"/>
          <p:cNvSpPr/>
          <p:nvPr/>
        </p:nvSpPr>
        <p:spPr>
          <a:xfrm>
            <a:off x="533520" y="838080"/>
            <a:ext cx="152388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2057400" y="838080"/>
            <a:ext cx="76320" cy="3962520"/>
          </a:xfrm>
          <a:prstGeom prst="rect">
            <a:avLst/>
          </a:prstGeom>
          <a:solidFill>
            <a:srgbClr val="a9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6"/>
          <p:cNvSpPr/>
          <p:nvPr/>
        </p:nvSpPr>
        <p:spPr>
          <a:xfrm>
            <a:off x="2133720" y="838080"/>
            <a:ext cx="259056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8"/>
          <p:cNvSpPr/>
          <p:nvPr/>
        </p:nvSpPr>
        <p:spPr>
          <a:xfrm>
            <a:off x="4800600" y="838080"/>
            <a:ext cx="251460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9"/>
          <p:cNvSpPr/>
          <p:nvPr/>
        </p:nvSpPr>
        <p:spPr>
          <a:xfrm>
            <a:off x="7391520" y="838080"/>
            <a:ext cx="137160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0"/>
          <p:cNvSpPr/>
          <p:nvPr/>
        </p:nvSpPr>
        <p:spPr>
          <a:xfrm>
            <a:off x="4724280" y="838080"/>
            <a:ext cx="76320" cy="3962520"/>
          </a:xfrm>
          <a:prstGeom prst="rect">
            <a:avLst/>
          </a:prstGeom>
          <a:solidFill>
            <a:srgbClr val="a9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7315200" y="838080"/>
            <a:ext cx="76320" cy="3962520"/>
          </a:xfrm>
          <a:prstGeom prst="rect">
            <a:avLst/>
          </a:prstGeom>
          <a:solidFill>
            <a:srgbClr val="a9c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8763120" y="838080"/>
            <a:ext cx="152280" cy="502920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28600" y="4800600"/>
            <a:ext cx="8686800" cy="0"/>
          </a:xfrm>
          <a:prstGeom prst="line">
            <a:avLst/>
          </a:prstGeom>
          <a:ln cap="rnd" w="316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228600" y="2666880"/>
            <a:ext cx="8686800" cy="0"/>
          </a:xfrm>
          <a:prstGeom prst="line">
            <a:avLst/>
          </a:prstGeom>
          <a:ln cap="rnd" w="316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27"/>
          <p:cNvSpPr/>
          <p:nvPr/>
        </p:nvSpPr>
        <p:spPr>
          <a:xfrm>
            <a:off x="3048120" y="1600200"/>
            <a:ext cx="0" cy="213372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28"/>
          <p:cNvSpPr/>
          <p:nvPr/>
        </p:nvSpPr>
        <p:spPr>
          <a:xfrm>
            <a:off x="5638680" y="1600200"/>
            <a:ext cx="0" cy="213372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29"/>
          <p:cNvSpPr/>
          <p:nvPr/>
        </p:nvSpPr>
        <p:spPr>
          <a:xfrm>
            <a:off x="3962520" y="1600200"/>
            <a:ext cx="0" cy="213372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0"/>
          <p:cNvSpPr/>
          <p:nvPr/>
        </p:nvSpPr>
        <p:spPr>
          <a:xfrm>
            <a:off x="6629400" y="1600200"/>
            <a:ext cx="0" cy="3200400"/>
          </a:xfrm>
          <a:prstGeom prst="line">
            <a:avLst/>
          </a:prstGeom>
          <a:ln w="381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1"/>
          <p:cNvSpPr/>
          <p:nvPr/>
        </p:nvSpPr>
        <p:spPr>
          <a:xfrm>
            <a:off x="228600" y="838080"/>
            <a:ext cx="304920" cy="762120"/>
          </a:xfrm>
          <a:prstGeom prst="rect">
            <a:avLst/>
          </a:prstGeom>
          <a:solidFill>
            <a:srgbClr val="a9cdf5"/>
          </a:solidFill>
          <a:ln w="936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32"/>
          <p:cNvSpPr/>
          <p:nvPr/>
        </p:nvSpPr>
        <p:spPr>
          <a:xfrm>
            <a:off x="228600" y="3733920"/>
            <a:ext cx="8686800" cy="0"/>
          </a:xfrm>
          <a:prstGeom prst="line">
            <a:avLst/>
          </a:prstGeom>
          <a:ln cap="rnd" w="316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3"/>
          <p:cNvSpPr/>
          <p:nvPr/>
        </p:nvSpPr>
        <p:spPr>
          <a:xfrm>
            <a:off x="228600" y="5867280"/>
            <a:ext cx="8686800" cy="0"/>
          </a:xfrm>
          <a:prstGeom prst="line">
            <a:avLst/>
          </a:prstGeom>
          <a:ln w="31680">
            <a:solidFill>
              <a:srgbClr val="a9cd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4"/>
          <p:cNvSpPr/>
          <p:nvPr/>
        </p:nvSpPr>
        <p:spPr>
          <a:xfrm>
            <a:off x="2973240" y="10666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5"/>
          <p:cNvSpPr/>
          <p:nvPr/>
        </p:nvSpPr>
        <p:spPr>
          <a:xfrm>
            <a:off x="5486040" y="10666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6"/>
          <p:cNvSpPr/>
          <p:nvPr/>
        </p:nvSpPr>
        <p:spPr>
          <a:xfrm>
            <a:off x="7544880" y="8380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1bca"/>
                </a:solidFill>
                <a:latin typeface="Arial"/>
              </a:rPr>
              <a:t>Me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1bca"/>
                </a:solidFill>
                <a:latin typeface="Arial"/>
              </a:rPr>
              <a:t>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7"/>
          <p:cNvSpPr/>
          <p:nvPr/>
        </p:nvSpPr>
        <p:spPr>
          <a:xfrm>
            <a:off x="762840" y="914400"/>
            <a:ext cx="108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38"/>
          <p:cNvSpPr/>
          <p:nvPr/>
        </p:nvSpPr>
        <p:spPr>
          <a:xfrm>
            <a:off x="836280" y="510552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First-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9"/>
          <p:cNvSpPr/>
          <p:nvPr/>
        </p:nvSpPr>
        <p:spPr>
          <a:xfrm>
            <a:off x="4724280" y="48625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mistry I &amp; II       Biology I &amp;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 I &amp; II               Physics I &amp;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s              Liberal el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40"/>
          <p:cNvSpPr/>
          <p:nvPr/>
        </p:nvSpPr>
        <p:spPr>
          <a:xfrm>
            <a:off x="4267080" y="49528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2"/>
          <p:cNvSpPr/>
          <p:nvPr/>
        </p:nvSpPr>
        <p:spPr>
          <a:xfrm rot="16200000">
            <a:off x="1551240" y="233316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only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and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 rot="16200000">
            <a:off x="4142160" y="233316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only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and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 rot="16200000">
            <a:off x="2641320" y="2388240"/>
            <a:ext cx="18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6"/>
          <p:cNvSpPr/>
          <p:nvPr/>
        </p:nvSpPr>
        <p:spPr>
          <a:xfrm rot="16200000">
            <a:off x="5232240" y="2388240"/>
            <a:ext cx="182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7"/>
          <p:cNvSpPr/>
          <p:nvPr/>
        </p:nvSpPr>
        <p:spPr>
          <a:xfrm rot="16200000">
            <a:off x="5991480" y="292356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bca"/>
                </a:solidFill>
                <a:latin typeface="Arial"/>
              </a:rPr>
              <a:t>Applie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8"/>
          <p:cNvSpPr/>
          <p:nvPr/>
        </p:nvSpPr>
        <p:spPr>
          <a:xfrm rot="16200000">
            <a:off x="3690360" y="2481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e1bca"/>
                </a:solidFill>
                <a:latin typeface="Arial"/>
              </a:rPr>
              <a:t>Bi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0"/>
          <p:cNvSpPr/>
          <p:nvPr/>
        </p:nvSpPr>
        <p:spPr>
          <a:xfrm>
            <a:off x="2362320" y="3962520"/>
            <a:ext cx="21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1"/>
          <p:cNvSpPr/>
          <p:nvPr/>
        </p:nvSpPr>
        <p:spPr>
          <a:xfrm>
            <a:off x="5029200" y="37339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2"/>
          <p:cNvSpPr/>
          <p:nvPr/>
        </p:nvSpPr>
        <p:spPr>
          <a:xfrm rot="16200000">
            <a:off x="-228960" y="2438640"/>
            <a:ext cx="3143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minimum of one from stream 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of two from Stream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3"/>
          <p:cNvSpPr/>
          <p:nvPr/>
        </p:nvSpPr>
        <p:spPr>
          <a:xfrm rot="16200000">
            <a:off x="8280" y="50997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4"/>
          <p:cNvSpPr/>
          <p:nvPr/>
        </p:nvSpPr>
        <p:spPr>
          <a:xfrm rot="16200000">
            <a:off x="8280" y="1975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5"/>
          <p:cNvSpPr/>
          <p:nvPr/>
        </p:nvSpPr>
        <p:spPr>
          <a:xfrm rot="16200000">
            <a:off x="8280" y="30423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6"/>
          <p:cNvSpPr/>
          <p:nvPr/>
        </p:nvSpPr>
        <p:spPr>
          <a:xfrm rot="16200000">
            <a:off x="8280" y="4109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a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7"/>
          <p:cNvSpPr/>
          <p:nvPr/>
        </p:nvSpPr>
        <p:spPr>
          <a:xfrm flipH="1">
            <a:off x="228240" y="1600200"/>
            <a:ext cx="30492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8"/>
          <p:cNvSpPr/>
          <p:nvPr/>
        </p:nvSpPr>
        <p:spPr>
          <a:xfrm flipV="1">
            <a:off x="533520" y="837720"/>
            <a:ext cx="0" cy="76212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9"/>
          <p:cNvSpPr/>
          <p:nvPr/>
        </p:nvSpPr>
        <p:spPr>
          <a:xfrm flipV="1">
            <a:off x="2133720" y="837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0"/>
          <p:cNvSpPr/>
          <p:nvPr/>
        </p:nvSpPr>
        <p:spPr>
          <a:xfrm rot="16200000">
            <a:off x="6638400" y="2810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Physic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5" dur="2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3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7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Upper Level Courses in Medical Physic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61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econd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ird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urth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</a:tr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tatistics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ntro to Medical 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Organic Chemistry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eometry &amp; Calcul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n Physic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io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hotonics &amp; Optical        dev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Differential Equ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uantum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iberal el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hys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Nuclear physics / Radiation Prot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ll b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nat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lectricity &amp; Magnet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Numerical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rmodynamics and Statistical 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ling in Med. Phy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fessional el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 Liberal el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adiation Biolog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edical Im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 Professional el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2d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Image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92d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2d050"/>
                          </a:solidFill>
                          <a:latin typeface="Arial"/>
                        </a:rPr>
                        <a:t>Phys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 Liberal elec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dical Physics Thesis (two term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222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edical Physicist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Bridges Physics and Medicine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31" name="Picture 6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76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e1bca"/>
                </a:solidFill>
                <a:uFillTx/>
                <a:latin typeface="Arial"/>
              </a:rPr>
              <a:t>Co-Op in Medical Physic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5335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1337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37339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53341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6934320" y="19810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A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5335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16002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10666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7339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004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3"/>
          <p:cNvSpPr/>
          <p:nvPr/>
        </p:nvSpPr>
        <p:spPr>
          <a:xfrm>
            <a:off x="26668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4"/>
          <p:cNvSpPr/>
          <p:nvPr/>
        </p:nvSpPr>
        <p:spPr>
          <a:xfrm>
            <a:off x="21337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42670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48006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53341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58672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9"/>
          <p:cNvSpPr/>
          <p:nvPr/>
        </p:nvSpPr>
        <p:spPr>
          <a:xfrm>
            <a:off x="64008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6934320" y="23623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746748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8001000" y="236232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26668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4"/>
          <p:cNvSpPr/>
          <p:nvPr/>
        </p:nvSpPr>
        <p:spPr>
          <a:xfrm>
            <a:off x="1600200" y="2895480"/>
            <a:ext cx="533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5"/>
          <p:cNvSpPr/>
          <p:nvPr/>
        </p:nvSpPr>
        <p:spPr>
          <a:xfrm>
            <a:off x="10666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5335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3200400" y="3124080"/>
            <a:ext cx="533520" cy="121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4267080" y="3124080"/>
            <a:ext cx="53352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6400800" y="3124080"/>
            <a:ext cx="53352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21337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4800600" y="3124080"/>
            <a:ext cx="53352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37339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5334120" y="3124080"/>
            <a:ext cx="53316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W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e1bca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58672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7467480" y="2743200"/>
            <a:ext cx="5335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e1b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6934320" y="2743200"/>
            <a:ext cx="5331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8"/>
          <p:cNvSpPr/>
          <p:nvPr/>
        </p:nvSpPr>
        <p:spPr>
          <a:xfrm>
            <a:off x="762120" y="4800600"/>
            <a:ext cx="2895480" cy="825480"/>
          </a:xfrm>
          <a:prstGeom prst="rect">
            <a:avLst/>
          </a:prstGeom>
          <a:solidFill>
            <a:srgbClr val="a9cd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1bca"/>
                </a:solidFill>
                <a:latin typeface="Arial"/>
              </a:rPr>
              <a:t>Preparation for 1</a:t>
            </a:r>
            <a:r>
              <a:rPr b="1" lang="en-US" sz="2400" spc="-1" strike="noStrike" baseline="30000">
                <a:solidFill>
                  <a:srgbClr val="0e1bca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e1bca"/>
                </a:solidFill>
                <a:latin typeface="Arial"/>
              </a:rPr>
              <a:t>  Co-op Work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40"/>
          <p:cNvSpPr/>
          <p:nvPr/>
        </p:nvSpPr>
        <p:spPr>
          <a:xfrm>
            <a:off x="2438280" y="4267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41"/>
          <p:cNvSpPr/>
          <p:nvPr/>
        </p:nvSpPr>
        <p:spPr>
          <a:xfrm flipV="1">
            <a:off x="2438280" y="403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2"/>
          <p:cNvSpPr/>
          <p:nvPr/>
        </p:nvSpPr>
        <p:spPr>
          <a:xfrm flipV="1">
            <a:off x="2971800" y="40381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3"/>
          <p:cNvSpPr/>
          <p:nvPr/>
        </p:nvSpPr>
        <p:spPr>
          <a:xfrm>
            <a:off x="2743200" y="4267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"/>
          <p:cNvSpPr/>
          <p:nvPr/>
        </p:nvSpPr>
        <p:spPr>
          <a:xfrm>
            <a:off x="3848040" y="4419720"/>
            <a:ext cx="491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students are eligible to graduate with a B.Sc. (Co-Operative Education) degree (an option of the program) if they are successfully completed five or four co-op work te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2"/>
          <p:cNvSpPr/>
          <p:nvPr/>
        </p:nvSpPr>
        <p:spPr>
          <a:xfrm>
            <a:off x="152280" y="182520"/>
            <a:ext cx="8991720" cy="22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Business Management O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n Medical Physics program </a:t>
            </a:r>
            <a:r>
              <a:rPr b="0" lang="en-US" sz="2400" spc="-1" strike="noStrike">
                <a:solidFill>
                  <a:srgbClr val="0e1bc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s students with a solid foundation in management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ourses available in the spring 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pecial designation appended to degree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457200" y="2743200"/>
          <a:ext cx="8381880" cy="3011400"/>
        </p:xfrm>
        <a:graphic>
          <a:graphicData uri="http://schemas.openxmlformats.org/drawingml/2006/table">
            <a:tbl>
              <a:tblPr/>
              <a:tblGrid>
                <a:gridCol w="4497480"/>
                <a:gridCol w="38844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Required Cour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Elective Courses (select o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cdf5"/>
                    </a:solidFill>
                  </a:tcPr>
                </a:tc>
              </a:tr>
              <a:tr h="641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Entrepreneurship&amp; Innov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Management Informa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Operations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Operations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Investment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Managerial Accoun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Organization Design &amp;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roject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Arial"/>
                          <a:ea typeface="바탕"/>
                        </a:rPr>
                        <a:t>Principles of Engineering Econo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505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Carrier Possibilitie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352320" y="152280"/>
            <a:ext cx="5791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BSc graduates can choose employment with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Research labora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Regulatory author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Environmental consult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Power-generating u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Or work w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Medical radiation source manufactur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Cancer clinics (as physics assista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Equipment developers and produc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Medical imaging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Information technology compan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Graduates can also pursue research degrees in Medical Physics, Medical Biophysics, or related fiel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Graduates could also proceed to professional schools 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Medi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Edu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0e1b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1bca"/>
                </a:solidFill>
                <a:latin typeface="Arial"/>
              </a:rPr>
              <a:t>L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7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7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3504960" y="4495320"/>
            <a:ext cx="5329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ffffff"/>
                </a:solidFill>
                <a:latin typeface="Arial Narrow"/>
              </a:rPr>
              <a:t>Life after gradu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3428640" y="1981080"/>
            <a:ext cx="53290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 Narrow"/>
              </a:rPr>
              <a:t>Ryerson Medical Physics Alumn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850920" y="1484280"/>
            <a:ext cx="495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rjit Baghwala – Class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pleting my BSc. in Medical Physics, I got admitted into the Health and Radiation Physics MSc. program at McMaster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ompleted my masters in 2010 September and took up a job offer of a Medical Physicist in Houston, TX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265560" cy="2179800"/>
          </a:xfrm>
          <a:prstGeom prst="rect">
            <a:avLst/>
          </a:prstGeom>
          <a:ln w="0">
            <a:noFill/>
          </a:ln>
        </p:spPr>
      </p:pic>
    </p:spTree>
  </p:cSld>
  <p:transition advTm="2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203640" y="1557360"/>
            <a:ext cx="560232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arolyn Halar – Class of 20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was given the support and guidance I needed along the way to get where I wanted to 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have made many friends throughout my years at Ryerson and many memories to take with m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am currently attaining my Bachelor of Education (I/S- Math and Physics), at the University of Toronto (OIS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yerson helped me get there by providing me with knowledge and confidence in the subject area that I want to teach.”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2" descr="Carolyn"/>
          <p:cNvPicPr/>
          <p:nvPr/>
        </p:nvPicPr>
        <p:blipFill>
          <a:blip r:embed="rId1"/>
          <a:stretch/>
        </p:blipFill>
        <p:spPr>
          <a:xfrm>
            <a:off x="539640" y="2205000"/>
            <a:ext cx="2303640" cy="3828960"/>
          </a:xfrm>
          <a:prstGeom prst="rect">
            <a:avLst/>
          </a:prstGeom>
          <a:ln w="0">
            <a:noFill/>
          </a:ln>
        </p:spPr>
      </p:pic>
    </p:spTree>
  </p:cSld>
  <p:transition advTm="25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Joris Tchouala – Class of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tudying Medical Physics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yerson has provided me 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expertise necessary to thr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 an evolving area of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are: Medical Imagin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graduated from Ryerson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pril 2010, and have been wor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s a research assistant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unnybrook hospital since the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2" descr="D:\bkirkham\Desktop\bioJoris.jpg"/>
          <p:cNvPicPr/>
          <p:nvPr/>
        </p:nvPicPr>
        <p:blipFill>
          <a:blip r:embed="rId1"/>
          <a:stretch/>
        </p:blipFill>
        <p:spPr>
          <a:xfrm>
            <a:off x="3708360" y="1989000"/>
            <a:ext cx="5013360" cy="3743640"/>
          </a:xfrm>
          <a:prstGeom prst="rect">
            <a:avLst/>
          </a:prstGeom>
          <a:ln w="0">
            <a:noFill/>
          </a:ln>
        </p:spPr>
      </p:pic>
    </p:spTree>
  </p:cSld>
  <p:transition advTm="25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elissa Martinez – Class of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 am currently doing research at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ought controlled computing compa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y job is to design algorithms for E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nalysis and to assist with creative R&amp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f brainwave controlled experi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nd applications.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D:\bkirkham\Desktop\meli.jpg"/>
          <p:cNvPicPr/>
          <p:nvPr/>
        </p:nvPicPr>
        <p:blipFill>
          <a:blip r:embed="rId1"/>
          <a:stretch/>
        </p:blipFill>
        <p:spPr>
          <a:xfrm>
            <a:off x="4356000" y="2349360"/>
            <a:ext cx="3936960" cy="2951280"/>
          </a:xfrm>
          <a:prstGeom prst="rect">
            <a:avLst/>
          </a:prstGeom>
          <a:ln w="0">
            <a:noFill/>
          </a:ln>
        </p:spPr>
      </p:pic>
    </p:spTree>
  </p:cSld>
  <p:transition advTm="27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Jatin Patel – Class of 200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fter finishing my Masters degree in Health Physics at McMaster University, I am working as Health Physics at ENERGYSOLUTIONS Canada. Ryerson prepared me for graduate school by providing me with research and work experience through research assistant (RA) positions and a co-op education progra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tretch/>
        </p:blipFill>
        <p:spPr>
          <a:xfrm>
            <a:off x="3132000" y="3197160"/>
            <a:ext cx="4176720" cy="312912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3"/>
          <p:cNvSpPr/>
          <p:nvPr/>
        </p:nvSpPr>
        <p:spPr>
          <a:xfrm rot="20633400">
            <a:off x="103320" y="3989520"/>
            <a:ext cx="3171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bfbfbf"/>
                </a:solidFill>
                <a:latin typeface="Arial"/>
              </a:rPr>
              <a:t> “</a:t>
            </a:r>
            <a:r>
              <a:rPr b="0" i="1" lang="en-CA" sz="1200" spc="-1" strike="noStrike">
                <a:solidFill>
                  <a:srgbClr val="bfbfbf"/>
                </a:solidFill>
                <a:latin typeface="Arial"/>
              </a:rPr>
              <a:t>By providing me with a broad exposure to many different areas of Medical Physics, Ryerson helped me to find myself as a student and as a perso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203640" y="1527120"/>
            <a:ext cx="560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sa Alhamami – Class of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ompleted a BSc, with first-class honors, in Medical Physics at Ryerson University in 2011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my undergraduate studies, I worked on NSERC-funded research projects in summer 2010 and 2011 in the Department of Physics at Ryers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involved in the development of an image-guided high intensity focused ultrasound (HIFU) system for applications in neural tissue modulation and solid tumor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uture, I intend to pursue PhD and MD degrees, with specialization in interventional radiology.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1"/>
          <a:stretch/>
        </p:blipFill>
        <p:spPr>
          <a:xfrm>
            <a:off x="576360" y="2205000"/>
            <a:ext cx="2352600" cy="35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dical Physicis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dical physic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professional who specializes in the application of the concepts and methods of physics to the diagnosis and treatment of human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99"/>
                </a:solidFill>
                <a:latin typeface="Arial"/>
              </a:rPr>
              <a:t>Where has your Medical Physics BSc taken you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131640" y="1527120"/>
            <a:ext cx="567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ermiya Baguisa – Class of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'm currently on a full scholarship for a PhD program in chemical physics at the University of Queensland (Australia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work is being done at the Centre for Advanced Imaging, in collaboration with the School of Physics and School of Chemistry and Molecular Biosci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project involves utilizing electron paramagnetic resonance (EPR) and nuclear magnetic resonance (NMR) to understand the physics of the biomolecule melanin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2425680" cy="32893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838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Who can apply to the undergraduate program in Medical Physics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dmission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tario Secondary School Diplom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.S.S.D.) with 6 grade 12 U/M or OAC courses including a minimum of 70% or higher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lish/Anglais (ENG4U/EAE4U preferr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Functions (MHF4U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of: Biology (SBI4U), Chemistry (SCH4U) or Physics (SPH4U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buClr>
                <a:srgbClr val="1270c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70c6"/>
                </a:solidFill>
                <a:latin typeface="Arial"/>
              </a:rPr>
              <a:t>Biology (SBI4U) is strongly recommended for Biology students, Chemistry (SCH4U) is strongly recommended for Chemistry students, and Physics is recommended for all Bachelor of Science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457200" y="627696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ore information visit: http://www.ryerson.ca/undergraduate/admission/programs/medica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4191120" y="31680"/>
            <a:ext cx="4952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Arial"/>
              </a:rPr>
              <a:t>Student Suppor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First Year and Common Science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ree tutoring in first-year science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earning succes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ccess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riting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entre for student development and coun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areer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Ryerson studen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udent financi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ealth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any, many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233280" y="2438280"/>
            <a:ext cx="3657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While an undergraduate stu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search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boratory technologist as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-op and inter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ubs, groups, course unions,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fessional schools (medicine, dentistry, pharmac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"/>
          <p:cNvSpPr/>
          <p:nvPr/>
        </p:nvSpPr>
        <p:spPr>
          <a:xfrm>
            <a:off x="228600" y="228600"/>
            <a:ext cx="3657600" cy="1008720"/>
          </a:xfrm>
          <a:prstGeom prst="rect">
            <a:avLst/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yerson is a leader in providing student centered service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8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F61F-26A5-459F-BAD4-7FD70E605EBC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9" descr="f1.tif"/>
          <p:cNvPicPr/>
          <p:nvPr/>
        </p:nvPicPr>
        <p:blipFill>
          <a:blip r:embed="rId1"/>
          <a:stretch/>
        </p:blipFill>
        <p:spPr>
          <a:xfrm>
            <a:off x="398520" y="1425600"/>
            <a:ext cx="6549840" cy="287964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10" descr="f2.tif"/>
          <p:cNvPicPr/>
          <p:nvPr/>
        </p:nvPicPr>
        <p:blipFill>
          <a:blip r:embed="rId2"/>
          <a:stretch/>
        </p:blipFill>
        <p:spPr>
          <a:xfrm>
            <a:off x="3708360" y="4017960"/>
            <a:ext cx="4624560" cy="2703600"/>
          </a:xfrm>
          <a:prstGeom prst="rect">
            <a:avLst/>
          </a:prstGeom>
          <a:ln w="0">
            <a:noFill/>
          </a:ln>
        </p:spPr>
      </p:pic>
      <p:sp>
        <p:nvSpPr>
          <p:cNvPr id="807" name="Rectangle 5"/>
          <p:cNvSpPr/>
          <p:nvPr/>
        </p:nvSpPr>
        <p:spPr>
          <a:xfrm>
            <a:off x="179280" y="58896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re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yerson.ca/physi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-6840" y="-3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edical Physic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at Ryerson University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Box 7"/>
          <p:cNvSpPr/>
          <p:nvPr/>
        </p:nvSpPr>
        <p:spPr>
          <a:xfrm rot="1962600">
            <a:off x="5336640" y="1025640"/>
            <a:ext cx="401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2454120" y="36543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y 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0" dur="2000" fill="hold"/>
                                        <p:tgtEl>
                                          <p:spTgt spid="810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edical Physics Disciplines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(Subfields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581280" y="17521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Therapeutic Radiological Physics or Radiation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Diagnostic Imaging Physics or Medical 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edical Nuclear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Medical Health 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rapeutic Radiological Physics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504960" y="121932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rapeutic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-ray, gamma ray, neutron, electron, and charged-particle beams, and radiation from sealed radionuclide 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ipment associated with their production, use, measurement, and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lity of images resulting from their production and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health physics associated with this sub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Diagnostic Radiological Physic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429000" y="1295280"/>
            <a:ext cx="5410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agnostic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-rays, gamma rays from sealed sources, ultrasonic radiation, and radio frequency radiation and magnetic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ipment associated with their production, use, measurement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lity of images resulting from their produc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health physics associated with this sub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dical Nuclear Physic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818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rapeutic and diagnos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lications of radionuclides in 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unseal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ipment associated with their production, use, measurement,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lity of images resulting from their production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cal health physics associated with this sub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edical Health Physic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428640" y="1447560"/>
            <a:ext cx="5257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afe 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x-ray, gamma ray, neutron, electron, and other charged particle beams or radionuclides in medicine (for diagnostic or therapeutic purpo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ation required to perform appropriate radiation surv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dical physicist often serves as the radiation safety offi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The Medical Physicist is Part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of the Medical Team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(Radiation, Oncologist, Surgeon,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Physi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Dosimet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s Ass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 Therap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4572000" y="2057400"/>
            <a:ext cx="4572000" cy="39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(Radiologist, Cardiologist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Physic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s As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logical Techn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9:39:08Z</dcterms:created>
  <dc:creator>dmp</dc:creator>
  <dc:description/>
  <dc:language>en-US</dc:language>
  <cp:lastModifiedBy>Tetyana Antimirova</cp:lastModifiedBy>
  <dcterms:modified xsi:type="dcterms:W3CDTF">2013-05-27T13:33:24Z</dcterms:modified>
  <cp:revision>78</cp:revision>
  <dc:subject/>
  <dc:title>Slide 1</dc:title>
</cp:coreProperties>
</file>